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B3A-F255-4A0A-89A8-6B7C8831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C7F-9992-4741-A948-B243D1F2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280-ADC1-4C63-8437-94EA6FB7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5AE-50AA-43B3-9248-B4888E27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B1A-11B8-4026-AC1C-1BFEDAB6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BB5A-C612-4BAF-823D-61CA256C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17B-D278-4C6D-B976-616F86A4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A65-9920-4955-AB39-B083A887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95D-CFB5-4B3A-8A40-BFAF218A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6F36-53B5-457F-A90D-441684FD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E4A-4645-4444-B2F1-14E2941B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9E4-3F08-4665-9692-D7079B7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B1DB-2EBF-4A41-AC79-81BAD8AC6F7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LAB-ba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tice Pars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ccelerator Toolbox (AT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—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and Lattice I/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6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ace Ch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tice_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he path or under ~/lattice_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 of the AT latti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lobal Lattice_DB FAMLIST THERING GLOB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ttice_parser(‘lattice-format’,‘lattice-file-name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AMLIST THERING GLOBVAL] = lattice_parser(‘MAD8’,’TPS24P18K1.MAD8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be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tice_DB FAMLIST THERING GLOB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tice_parser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MAD8’,’TPS24P18K1.MAD8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字方塊 4"/>
          <p:cNvSpPr/>
          <p:nvPr/>
        </p:nvSpPr>
        <p:spPr>
          <a:xfrm>
            <a:off x="1187280" y="69228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lear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global Lattice_DB FAMLIST THERING GLOB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lattice_parser(‘MAD8’,'TPS24P18K1.MAD8’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plotbe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內容版面配置區 2" descr="螢幕快照 2012-01-06 下午1.15.44.png"/>
          <p:cNvPicPr/>
          <p:nvPr/>
        </p:nvPicPr>
        <p:blipFill>
          <a:blip r:embed="rId1"/>
          <a:srcRect l="-32889" t="0" r="-32889" b="0"/>
          <a:stretch/>
        </p:blipFill>
        <p:spPr>
          <a:xfrm>
            <a:off x="755640" y="227664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ace</cp:lastModifiedBy>
  <dcterms:modified xsi:type="dcterms:W3CDTF">2012-01-06T05:17:05Z</dcterms:modified>
  <cp:revision>17</cp:revision>
  <dc:subject/>
  <dc:title>PowerPoint Presentation</dc:title>
</cp:coreProperties>
</file>